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772-1A71-41B3-9B7C-98BBB5BA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FFB-255B-419C-86AA-9959EF8A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723-9F46-43EB-B712-0C1479DC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D34-CA37-492A-A91B-5010D609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67A-3FD2-42CD-A790-02653B7C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B6B-B5D8-44C8-9671-EB93A58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51F-5E06-40CC-8CD1-0C9ADCB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C31-5FE2-4AA6-ADBC-BAEC8E77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710-702E-4F47-930A-995EDCDB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746-CB94-4673-A468-5C46759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A69-AE9B-4C24-AD24-46CC003D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83E-427B-40C3-87F7-C537DBE3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4EDC-880E-4435-81E7-399C47EAC7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194b36"/>
                </a:solidFill>
                <a:latin typeface="Arial Narrow"/>
              </a:rPr>
              <a:t>CONFERÊNCIA ESTADUAL DE SAÚDE MENTAL -  INTERSETORIA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" name="Espaço Reservado para Conteúdo 3" descr="imagem.JPG"/>
          <p:cNvPicPr/>
          <p:nvPr/>
        </p:nvPicPr>
        <p:blipFill>
          <a:blip r:embed="rId1"/>
          <a:stretch/>
        </p:blipFill>
        <p:spPr>
          <a:xfrm>
            <a:off x="3000240" y="2071800"/>
            <a:ext cx="290700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6"/>
          <p:cNvSpPr/>
          <p:nvPr/>
        </p:nvSpPr>
        <p:spPr>
          <a:xfrm>
            <a:off x="357120" y="500040"/>
            <a:ext cx="12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194b36"/>
                </a:solidFill>
                <a:latin typeface="Arial Narrow"/>
              </a:rPr>
              <a:t>IV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428760" y="5286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40000"/>
                </a:solidFill>
                <a:latin typeface="Times New Roman"/>
              </a:rPr>
              <a:t>Por uma reforma psiquiátrica antimanicom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1785960" y="592920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3 a 15 de maio de 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o Horizonte -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M/AP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evantamento da disponibilidade da Atenção em SM nos 673 municípios com menos de 20 mil/ha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Gráfico 6" descr=""/>
          <p:cNvPicPr/>
          <p:nvPr/>
        </p:nvPicPr>
        <p:blipFill>
          <a:blip r:embed="rId1"/>
          <a:stretch/>
        </p:blipFill>
        <p:spPr>
          <a:xfrm>
            <a:off x="420840" y="2066760"/>
            <a:ext cx="83023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Centros de Con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28592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Calibri"/>
              </a:rPr>
              <a:t>Minas Gerais conta hoje com 23 Centros de Convivênci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9 em Belo Horizo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de Beti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Uberlând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Governador Valadar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Barbace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abará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Juiz de For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Conselheiro Lafaie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nhandu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Joaquim de B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ú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Natérc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Gonçalo do Rio Abaix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Alfen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patinga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Ouro Pre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ítulo 1"/>
          <p:cNvSpPr/>
          <p:nvPr/>
        </p:nvSpPr>
        <p:spPr>
          <a:xfrm rot="393000">
            <a:off x="5256360" y="555120"/>
            <a:ext cx="3571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Associação de Usuários </a:t>
            </a:r>
            <a:br>
              <a:rPr sz="2400"/>
            </a:b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 Famili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m 21 municípi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760" y="3571920"/>
            <a:ext cx="3571920" cy="15001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00"/>
                </a:solidFill>
                <a:uFillTx/>
                <a:latin typeface="Arial"/>
              </a:rPr>
              <a:t>GERAÇÃO DE R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26 experiências em 16 município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60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Narrow"/>
              </a:rPr>
              <a:t>HOSPITAIS PSIQUIÁTRICOS</a:t>
            </a: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icio dos anos 80 em torno de 8 mil leitos, distribuídos em 36 hospitais (maioria conveniado ao SUS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tualmente são 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 Hospitais Psiquiátricos, sendo 3 públicos e demais conveniados ao SUS</a:t>
            </a:r>
            <a:br>
              <a:rPr sz="2400"/>
            </a:br>
            <a:br>
              <a:rPr sz="2400"/>
            </a:br>
            <a:r>
              <a:rPr b="1" i="1" lang="pt-BR" sz="2800" spc="-1" strike="noStrike">
                <a:solidFill>
                  <a:srgbClr val="194b36"/>
                </a:solidFill>
                <a:latin typeface="Arial Narrow"/>
                <a:ea typeface="Times New Roman"/>
              </a:rPr>
              <a:t>Total de leitos 2.425 - sendo que 1.049 são de longa permanência e 1.376 de leitos para pacientes agudos.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14300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94b36"/>
                </a:solidFill>
                <a:uFillTx/>
                <a:latin typeface="Arial Narrow"/>
              </a:rPr>
              <a:t>Financiamento Estadual Fix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liberação SES/MG/CIB-SUS-MG nº 055, de 11/12/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stitui incentivo financeiro destinado aos municípios interessados na implantação da Rede de Serviços de Saúde Mental no valor de 15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emio Jose Cezar de Moraes –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eleção de 10 melhores trabalhos que relatem experiências exitosas dos municípios na área de saúde mental. Recurso anual de 150 mil re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curso do tesouro para aquisição de medicamen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00 mil reais anuais para ajuda no custeio de CAPS i e CAPS 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sistência Psiquiátrica Final dos anos 7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75308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936400">
            <a:off x="5398920" y="134100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uario\Meus documentos\fotos\Ituiutaba 2008\Cópia de P5210153.JPG"/>
          <p:cNvPicPr/>
          <p:nvPr/>
        </p:nvPicPr>
        <p:blipFill>
          <a:blip r:embed="rId3"/>
          <a:stretch/>
        </p:blipFill>
        <p:spPr>
          <a:xfrm rot="19927200">
            <a:off x="3492360" y="371592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uario\Meus documentos\fotos\Ituiutaba 2008\Cópia de P5210131.JPG"/>
          <p:cNvPicPr/>
          <p:nvPr/>
        </p:nvPicPr>
        <p:blipFill>
          <a:blip r:embed="rId4"/>
          <a:stretch/>
        </p:blipFill>
        <p:spPr>
          <a:xfrm rot="486600">
            <a:off x="6587640" y="4005000"/>
            <a:ext cx="226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uario\Meus documentos\fotos\Ituiutaba 2008\Cópia de P5210155.JPG"/>
          <p:cNvPicPr/>
          <p:nvPr/>
        </p:nvPicPr>
        <p:blipFill>
          <a:blip r:embed="rId5"/>
          <a:stretch/>
        </p:blipFill>
        <p:spPr>
          <a:xfrm rot="20849400">
            <a:off x="395280" y="3933360"/>
            <a:ext cx="3295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900000" y="1557360"/>
            <a:ext cx="7215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inas e a Saúde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ental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DR/MG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3 MACRORREGIÕ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nas Gerais possui 20.033.665 hab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m 853 municípios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DATASUS, 2009)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Dos 853 municípios mineiros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671 têm menos de 20mil h.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153 tem entre 20 e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29 municípios  superior a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Menos de 2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Aproximadamente 79% do total de municípios de MG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omando-se a população de todos esses municípios, tem-se mais de 5 milhões de habitantes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ão quase 30 % da população de nosso Estado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População pequena em área geográfica ampla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2920" y="1714680"/>
            <a:ext cx="857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5 CAPS 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3 CAPS I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 III – atenção contínua 24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CAPS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torno de  42 projetos  em processo de avaliação para credenciamento pela SES/M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156 Centros de Atenção Psicossoci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4803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7448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 rot="5400000">
            <a:off x="7332840" y="3086640"/>
            <a:ext cx="2879640" cy="1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Verdana"/>
              </a:rPr>
              <a:t>Responsabilidade temática: SES/AG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14200" y="428760"/>
            <a:ext cx="8447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axa de cobertura de CAPS – Minas Gera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4149720"/>
            <a:ext cx="194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39640" y="4437000"/>
            <a:ext cx="239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Cobertura de CAPS por 100.000 habitante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44840" y="6524640"/>
            <a:ext cx="39592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Disponível em http://200.198.43.8/SES/MG. Acesso em 10/09/2009.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Rosa_dos_Ventos_dsfdfdsdsaljdl"/>
          <p:cNvPicPr/>
          <p:nvPr/>
        </p:nvPicPr>
        <p:blipFill>
          <a:blip r:embed="rId3"/>
          <a:stretch/>
        </p:blipFill>
        <p:spPr>
          <a:xfrm>
            <a:off x="2987640" y="530064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4968720" y="5705640"/>
            <a:ext cx="169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Fonte: SISPACTO/MS/TABNET</a:t>
            </a:r>
            <a:r>
              <a:rPr b="1" lang="pt-BR" sz="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2240" y="6518160"/>
            <a:ext cx="305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Calibri"/>
              </a:rPr>
              <a:t>O valor em negrito corresponde à meta pactuada pelo estado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1086120" cy="17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948360" y="577836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lcançado em M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32360" y="1844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724360" y="2820960"/>
            <a:ext cx="10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Jequitinhon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84720" y="35733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838840" y="42130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43564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932360" y="4653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92436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243400" y="3500280"/>
            <a:ext cx="841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635280" y="2798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092320" y="342900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482920" y="3933720"/>
            <a:ext cx="1224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443640" y="2421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295880" y="4167360"/>
            <a:ext cx="106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81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bertura de CAPS por macro-região de Minas Gerais - REDE REAL/ 2009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319040"/>
          <a:ext cx="8429760" cy="5178600"/>
        </p:xfrm>
        <a:graphic>
          <a:graphicData uri="http://schemas.openxmlformats.org/drawingml/2006/table">
            <a:tbl>
              <a:tblPr/>
              <a:tblGrid>
                <a:gridCol w="1071720"/>
                <a:gridCol w="785880"/>
                <a:gridCol w="1000080"/>
                <a:gridCol w="785880"/>
                <a:gridCol w="857160"/>
                <a:gridCol w="785880"/>
                <a:gridCol w="785520"/>
                <a:gridCol w="785880"/>
                <a:gridCol w="642960"/>
                <a:gridCol w="928800"/>
              </a:tblGrid>
              <a:tr h="622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R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te. de municíp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pulação da Macrorregiã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d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/ 100.000 hab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ULO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8.78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.6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9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2.4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EQUITINHONHA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6.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57.6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89.1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TE DE MIN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609.79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5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4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. DO NOR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15.8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5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64.2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621.8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as Gerai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36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5643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77  Serviços Residenciais Terapêutic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torno de 760 morad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0040" y="1737360"/>
            <a:ext cx="367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6 Barbac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 Belo Horizo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Bet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onte Carm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Araçua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Conselheiro Lafai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Juiz de F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Montes Clar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ut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Itacarambí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7 Alfen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Divinópol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ontag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 rot="181200">
            <a:off x="3850920" y="1857240"/>
            <a:ext cx="4981680" cy="2208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GRAMA DE VOLTA PARA CA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m torno de 540 beneficiad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79 municípios cadastrados no Progra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ta de desospitalização para 2010: 75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45007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Times New Roman"/>
              </a:rPr>
              <a:t>Atualmente, temos 1045 moradores nos 19 hospitais psiquiátricos do Estado</a:t>
            </a:r>
            <a:r>
              <a:rPr b="1" i="1" lang="pt-BR" sz="2400" spc="-1" strike="noStrike">
                <a:solidFill>
                  <a:srgbClr val="b2b2b2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0:54:18Z</dcterms:created>
  <dc:creator>flaviar</dc:creator>
  <dc:description/>
  <dc:language>en-US</dc:language>
  <cp:lastModifiedBy>Casa</cp:lastModifiedBy>
  <dcterms:modified xsi:type="dcterms:W3CDTF">2010-05-13T01:53:07Z</dcterms:modified>
  <cp:revision>50</cp:revision>
  <dc:subject/>
  <dc:title>Reflexões Sobre a Reforma da Assistência Psiquiátrica  XII Congresso Mineiro de Psiquiatria    junho de 2008</dc:title>
</cp:coreProperties>
</file>